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C4B1-A634-4290-BDEE-62DFA3EEFF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A350-CD6E-40FF-AC93-F5BF828E70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199-FA88-420F-8465-F179DD5F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865-771E-4DD0-9A0A-E7164B1C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2D3B6-6D45-45EC-8BE4-34AD76B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CBA8C-DE06-4617-AA42-5600ECE9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966E6-5A93-480F-A4ED-BB36C89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149A6-08AB-47DA-83BB-F108FC6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858D9-D35D-45CF-A547-30D0CD48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CB1ED-E7C2-478B-8317-93FD60E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3781F-AECC-4DCC-ABE8-C2BB34FE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7CA8C-6BB0-4AF1-A211-689A0F45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09143-18C4-48E9-8503-C3E71745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32BA-940F-4DE0-8ADA-9C4E9745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971-1C9F-4338-9BFB-B32CCEC8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08B9-1435-4EA0-B5B1-CB883D4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4C367-BB07-4C57-AD23-E4AE28D7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5824F-C18F-4CFB-999C-E1C714D0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FD81-AB9D-4E5E-8884-2410050F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FFAA7-D390-466F-9289-1B14BFB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63A03-803F-4D5E-8CB8-41669E9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38449-0708-4E85-9F03-F6F6211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BB517-0817-4C86-ABDA-51A02F2B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941EC-CC70-4737-A117-19ADC57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40224-D2E7-49D4-BD1C-7EC22A06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7E1-C43B-4DCA-AA94-18CE7234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2B52C-2100-49C9-A2DF-DC94CBE6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E6550-8EB3-4BFE-BB8A-562176F4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2AF1-9D46-4F88-84FC-2F772A91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EF83-8331-43B9-AE8B-267942B6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D5CC-261D-42DB-A173-4A133460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4BBB-0583-4A6A-BB55-F0849BD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0BE12-25A0-41FB-8075-EA6EB5AA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25B0-5E32-43C6-9127-5B0FA22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08534-8DE0-4FB7-A73D-B6677F2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6B18-103A-4C68-908E-92C7C18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4E3D-8819-4EAE-8C55-1C1F48B7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C3CA4-7049-46E5-8075-ACB2170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958E7-A0C9-4F41-B7D0-38435C6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06D67-CE48-488B-9A67-DA1F4B57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32E79-2381-4F99-A263-78FDAA84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1980C-8B1C-4E30-84AB-BB4DFFC8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75CA-1F52-4A9E-8029-78B0B2F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50CC1-B93E-431F-B20D-AD8174A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D8F89-6DD6-4285-8AE2-EDE9919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1BF01-786F-4AC1-88E8-77CFEA5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9ADE0-FB76-44D5-A823-B0F8C79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DBD3-E1A2-4802-877B-ADFB7EAF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E5FF8-AC40-4A9C-A92A-3520BA94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63511-775D-4DFF-A0D5-C52EDEE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A0C30-AC46-40A1-B8BE-467959F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1167C-1640-4310-9510-11AA9247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23E2C-3277-4D08-9AC8-2ADCEB6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85B53-0716-4587-A36A-DE312851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7EE35-C39D-47CA-9A45-190E90F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2CE69-E441-477E-9BDC-7308D773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0DD4F-8C61-4B94-A432-F7957A6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E966C-8E73-423D-8267-889FF2C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07FB-89F5-494B-9A3B-34F502A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7F4FF-F6B8-49D3-BDB6-86B9A15A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15ED8-7D11-46CA-A523-4F27B36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B006F-B7F6-498A-8797-C5F7931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ABDD9-0CEE-4B2E-B63C-E5C9A98B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B3B35-C001-492E-826A-4A48F55D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4D652-A676-4DE2-BE9C-D0F0E50E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EE108-EEE1-471C-9CD0-26929125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5000-ACCC-4703-8AA7-489C1C4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1DD6-CEE6-4691-AFFA-C4252095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BAF0-1D8B-4D54-B15B-A7344E7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0B53-53AA-4B4A-97F7-184C674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C34-BE60-4FEE-8567-8EDF28A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9C3C-4C96-45EC-82C0-4723CE9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D74D-06C3-4A6E-8D34-8F35918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22CD-13C8-4034-A6D1-51AFA48C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135-4CC8-40D9-9B48-E041D26E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8474-F347-4ED1-BDBA-BFF2480B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E7EF-E1B2-4488-8369-B68A4B5E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F346-2843-4DA9-99E1-5139968C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86B7-7972-42D7-8CD7-9BDFDE6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28B5-D406-40A3-A859-F739CA4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C0FD-8529-4DCF-B5AC-5E5CF29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1D2-6F16-4E2D-889D-A0CE003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D8F8-94C6-4673-8FB3-35C115DF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DE87-F97A-4000-9155-8E27397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D96C-7244-4219-871A-15D2FF1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949B-12F6-4D9A-8245-F22C182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EA43-BEC5-4EEA-BEE0-BD3CCC8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B3CC-C38E-45A1-BC75-82E33B02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4B01-8792-4ECD-B391-554D5284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5BB32-07AB-429E-A099-9603D430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446E-69DA-43B1-8150-67E4644F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C431-FB92-4A35-B1CD-0C8EC39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E3A-B780-4B97-83A6-CB8B7D4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634D-6DCA-42EC-A96B-4BFF547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73F2-A2E4-49CC-8149-44564D2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2946-911B-4113-B122-372E004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8DD7-8886-41B1-9F48-4F5A190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3BEB-E774-4CD5-A4CD-8A6C1BB2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6A29-1E72-4480-AC60-80A415E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52EE-AF0C-4015-81AE-12D49D8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9E46-C383-49B9-98AE-266DCB8D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E3C7-9E26-4547-8D21-CC1ECB03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BE4CC-BD8C-4F76-A5F6-F5210786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5D3-2B97-4B0D-A461-58F80F1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2A074-B9C9-4CF3-995E-0725499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B215-BE86-4304-987E-F2E11CA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CBEC-3BAC-41A4-BB84-8F7FDA3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27AD-0DCF-4EC6-9C75-E4CAE18E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5039-41BA-403A-A213-E946B74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3FA6-F6F7-4392-A2B5-B74F584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72D8-CDBF-4C40-93FD-AABC2928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FC6A-2072-4CC5-A744-4C09AF9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C074F-736E-4637-8BC9-55A88CDB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7C76-5D87-4B0C-AC3F-62386EAF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DFA-CAF5-43DF-8A6E-83440E42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8DEAF-1B0E-412A-982B-7B24BC84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0955-7B94-4C07-9050-6B9A87D5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7E9BE-27EC-4DDB-9C59-E62ABA9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1DB79-8618-4989-AD6A-43F3156C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2F4C6-AE27-4772-8E03-CF159D6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A632-FBE3-41FE-A5E9-D99E004A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E337-D7D8-4A59-83A9-82A9D1B3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428D-2239-4036-B926-D5AC0937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9AA2-D858-47E4-ADDA-57181ABD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A304A-57FA-4B4E-93AD-1E3A54D7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168-B918-469F-AE28-71F15DA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D6E7D-187F-4880-9408-D887CF9E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E9F1-1389-49DB-AB2D-FACF6F9D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0406-5372-4100-BC39-F5E3F943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BCB16-588E-4409-8030-1BCD13B6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35E8-641C-49A7-AF4E-B9A3476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F7F2-CDE6-448C-95B2-7F859DC8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21195-657E-42B7-8725-8476BB4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14155-E608-41F9-BDD6-C9571706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F29FE-101B-4F89-BDBC-7A5F15FD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149B-BD5E-4DF1-96A4-114BE79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2AE-0FB1-4B53-9DEA-5C95880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8C41-F4EE-45BC-9BB9-8AA5A82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C345-70AE-4DD3-8AEE-3CAE799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FB3EE-9B36-4326-81A7-741B5E12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49B8-0499-4B64-9A54-84CDA8F4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8E1A3-6E12-4781-8DD3-1D59AC1B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09AE3-9B13-45CD-B87D-2715EF9F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245C-BCBD-44D6-A459-415E3456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27BB-3342-41F9-BC2F-581A0AF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CE35-3DA3-4004-B19C-ACBC4F5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425D-0E45-4FEF-B9BC-E149DD04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B2C-17CD-413D-9E35-CF87DBF2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000080" y="274320"/>
            <a:ext cx="768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67BDA-17D2-45F8-9FDA-057BBA9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DCDD9-5DCB-48F1-AB60-F3069C4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A58E-7FDA-4F11-850D-1197527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D412D-3133-42FC-9CF2-8BFCDAE1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7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A281-9493-498A-A677-4AA927A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4280" y="160020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904280" y="3964320"/>
            <a:ext cx="37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F37DC-C0ED-4109-9549-E7A59BD2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5176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4720" y="160020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5176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4720" y="3964320"/>
            <a:ext cx="2497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6C6D-4CD2-41DB-A010-9B10A772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26631-3298-4109-919F-E73612C4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9194D-2D27-4DD2-86D1-2CAB510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80206-B33A-4583-9D21-17B019B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EC6C-36B1-4F99-91B4-05A2ABD88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6" descr="ppt32.jpg"/>
          <p:cNvPicPr/>
          <p:nvPr/>
        </p:nvPicPr>
        <p:blipFill>
          <a:blip r:embed="rId3"/>
          <a:stretch/>
        </p:blipFill>
        <p:spPr>
          <a:xfrm>
            <a:off x="0" y="-96840"/>
            <a:ext cx="9429840" cy="7097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8"/>
          <p:cNvSpPr/>
          <p:nvPr/>
        </p:nvSpPr>
        <p:spPr>
          <a:xfrm>
            <a:off x="714240" y="35002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郭博士</a:t>
            </a:r>
            <a:r>
              <a:rPr b="0" lang="en-US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12</a:t>
            </a: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项高考复习考试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E70-8962-443A-992A-8D2B65A22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6" descr="ppt32.jpg"/>
          <p:cNvPicPr/>
          <p:nvPr/>
        </p:nvPicPr>
        <p:blipFill>
          <a:blip r:embed="rId3"/>
          <a:stretch/>
        </p:blipFill>
        <p:spPr>
          <a:xfrm>
            <a:off x="0" y="-96840"/>
            <a:ext cx="9429840" cy="70977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8"/>
          <p:cNvSpPr/>
          <p:nvPr/>
        </p:nvSpPr>
        <p:spPr>
          <a:xfrm>
            <a:off x="714240" y="35002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郭博士</a:t>
            </a:r>
            <a:r>
              <a:rPr b="0" lang="en-US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12</a:t>
            </a: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项高考复习考试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6A71-2937-463C-BBBA-41EA95B858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D264-8E49-4745-951D-F2C70E70C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D6D9-C74A-454A-9191-5526F04F5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ppt12首页.jpg"/>
          <p:cNvPicPr/>
          <p:nvPr/>
        </p:nvPicPr>
        <p:blipFill>
          <a:blip r:embed="rId3"/>
          <a:stretch/>
        </p:blipFill>
        <p:spPr>
          <a:xfrm>
            <a:off x="-142920" y="1440"/>
            <a:ext cx="9286920" cy="696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D35-741F-48A4-8612-468B7631B1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ppt12节标题.jpg"/>
          <p:cNvPicPr/>
          <p:nvPr/>
        </p:nvPicPr>
        <p:blipFill>
          <a:blip r:embed="rId3"/>
          <a:stretch/>
        </p:blipFill>
        <p:spPr>
          <a:xfrm>
            <a:off x="-142920" y="1440"/>
            <a:ext cx="9286920" cy="6961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B95F-2098-4FEE-B704-935E1F09A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" descr="ppt12空白页.jpg"/>
          <p:cNvPicPr/>
          <p:nvPr/>
        </p:nvPicPr>
        <p:blipFill>
          <a:blip r:embed="rId3"/>
          <a:stretch/>
        </p:blipFill>
        <p:spPr>
          <a:xfrm>
            <a:off x="-214200" y="0"/>
            <a:ext cx="9361440" cy="7016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B48-AF7D-46A0-8E4C-F5D9B21034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ppt12空白页.jpg"/>
          <p:cNvPicPr/>
          <p:nvPr/>
        </p:nvPicPr>
        <p:blipFill>
          <a:blip r:embed="rId3"/>
          <a:stretch/>
        </p:blipFill>
        <p:spPr>
          <a:xfrm>
            <a:off x="-193680" y="1440"/>
            <a:ext cx="9337680" cy="6999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81C-52D1-4A8D-AD15-349FBBD86A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6" descr="ppt32.jpg"/>
          <p:cNvPicPr/>
          <p:nvPr/>
        </p:nvPicPr>
        <p:blipFill>
          <a:blip r:embed="rId3"/>
          <a:stretch/>
        </p:blipFill>
        <p:spPr>
          <a:xfrm>
            <a:off x="0" y="-96840"/>
            <a:ext cx="9429840" cy="70977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714240" y="35002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郭博士谈赢在高考心理与复习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0CF-E808-4F92-BD73-3F1BBE7AD8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6" descr="ppt32.jpg"/>
          <p:cNvPicPr/>
          <p:nvPr/>
        </p:nvPicPr>
        <p:blipFill>
          <a:blip r:embed="rId3"/>
          <a:stretch/>
        </p:blipFill>
        <p:spPr>
          <a:xfrm>
            <a:off x="0" y="-96840"/>
            <a:ext cx="9429840" cy="7097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714240" y="35002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郭博士谈赢在高考心理与复习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3350-C322-4AE6-9ED2-DD30CE437B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6" descr="ppt32.jpg"/>
          <p:cNvPicPr/>
          <p:nvPr/>
        </p:nvPicPr>
        <p:blipFill>
          <a:blip r:embed="rId3"/>
          <a:stretch/>
        </p:blipFill>
        <p:spPr>
          <a:xfrm>
            <a:off x="0" y="-96840"/>
            <a:ext cx="9429840" cy="70977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714240" y="35002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郭博士谈赢在高考心理与复习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CA3B-0FB8-4C0E-8E17-D0F1D3F93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6" descr="ppt12内页.jpg"/>
          <p:cNvPicPr/>
          <p:nvPr/>
        </p:nvPicPr>
        <p:blipFill>
          <a:blip r:embed="rId2"/>
          <a:stretch/>
        </p:blipFill>
        <p:spPr>
          <a:xfrm>
            <a:off x="-142920" y="0"/>
            <a:ext cx="9296280" cy="695808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6" descr="ppt32.jpg"/>
          <p:cNvPicPr/>
          <p:nvPr/>
        </p:nvPicPr>
        <p:blipFill>
          <a:blip r:embed="rId3"/>
          <a:stretch/>
        </p:blipFill>
        <p:spPr>
          <a:xfrm>
            <a:off x="0" y="-96840"/>
            <a:ext cx="9429840" cy="70977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714240" y="35002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华文细黑"/>
                <a:ea typeface="华文细黑"/>
              </a:rPr>
              <a:t>郭博士谈赢在高考心理与复习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491-0162-43F8-B6B9-5DB2E229DB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qq.com/a/20040505/000204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207.152.99.250/piclib/mliterature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87631250&amp;tn=baiduimagedetail&amp;word=&#26460;&#40065;&#38376;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39456150&amp;tn=baiduimagedetail&amp;word=&#33678;&#22763;&#27604;&#20122;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y4u4.8u8.com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迷你简启体"/>
                <a:ea typeface="文鼎CS大黑"/>
              </a:rPr>
              <a:t>赢在高考心理与复习策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14280" y="2314080"/>
            <a:ext cx="2928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郭召良博士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消除考试焦虑的方法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另类放松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把焦虑不安写下来，就能消除不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考试前，每天做一件与学习无关而又擅长的事情更够预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心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考试前，心中不断重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心情已经非常平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话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考场上深呼吸能消除焦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6" descr="stress4"/>
          <p:cNvPicPr/>
          <p:nvPr/>
        </p:nvPicPr>
        <p:blipFill>
          <a:blip r:embed="rId1">
            <a:lum contrast="-24000"/>
          </a:blip>
          <a:srcRect l="46799" t="8712" r="2602" b="0"/>
          <a:stretch/>
        </p:blipFill>
        <p:spPr>
          <a:xfrm>
            <a:off x="309708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增强你的自信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你之所以感到巨人高不可攀，只是因为自己跪着，不信你站起来试试，你一定能发现自己并不比别人矮一截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马克思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9" descr="260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413000"/>
            <a:ext cx="333360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</a:rPr>
              <a:t>以排除万难，坚定不移的勇气干下去，必有成功之日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Calibri"/>
              </a:rPr>
              <a:t>邹韬奋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7" descr="zoutaof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34000" y="1557360"/>
            <a:ext cx="3313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</a:rPr>
              <a:t>对我力所能及的事，力争做到尽善尽美。对我力所不能及的事，就只好听天由命了。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</a:rPr>
              <a:t>杜鲁门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" descr="u=2956225206,2498486461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3832200" cy="4033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自信是走向成功的第一步，缺乏自信是失败的主要原因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4200" spc="-1" strike="noStrike">
                <a:solidFill>
                  <a:srgbClr val="000000"/>
                </a:solidFill>
                <a:latin typeface="Calibri"/>
              </a:rPr>
              <a:t>莎士比亚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4" descr="u=1994744522,165543382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798560"/>
            <a:ext cx="39589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于自信的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发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951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，英国人弗兰克林首先从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射线照片上发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NA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的螺旋结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953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年，沃森和克里克也从发现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NA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的分子结构，提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NA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双螺旋结构的假说。因此获得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962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年度诺贝尔医学奖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功亏一篑的故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英国一位女游泳选手，立志要做世界上第一位横渡英吉利海峡的人，她游到离英国海岸只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多米时放弃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相信自己  增强自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1" descr="j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9680" y="49320"/>
            <a:ext cx="5850000" cy="66657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3"/>
          <p:cNvSpPr/>
          <p:nvPr/>
        </p:nvSpPr>
        <p:spPr>
          <a:xfrm>
            <a:off x="224280" y="-22140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己是什么不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795960" y="63576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何看待自己最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你的考试减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成功者与失败者的唯一区别是什么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成功者坚信自己能够成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而失败者对能否成功抱持怀疑态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成功经验增加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回忆自己过去考试成功的经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回顾复习历程（耕耘有多少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改错题，考后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欺软怕硬，多做容易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我暗示增加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天都对自己说：“我能行，我能考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大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想象成功考试情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想象获得考试分数、录取通知书的情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增强自信的技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另类技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把自己做错的题目在重新做一遍能增强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把以前看过的参考书和试题集摞起来，放到目光所及的地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要解高难度的题，不解新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增强自信的咒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优等生咒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楷体_GB2312"/>
              </a:rPr>
              <a:t>我不会的，别人更不会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中等生咒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楷体_GB2312"/>
              </a:rPr>
              <a:t>我不会的，其他中等生也不会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楷体_GB2312"/>
              </a:rPr>
              <a:t>把基础题做对，就够本！把我平时不会的也答出来，就赚了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基础差学生咒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楷体_GB2312"/>
              </a:rPr>
              <a:t>进考场就是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楷体_GB2312"/>
              </a:rPr>
              <a:t>撞大运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楷体_GB2312"/>
              </a:rPr>
              <a:t>，多写多算，说不定有意外收获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从题海中走出来：收获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沙里淘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715000" y="1356840"/>
            <a:ext cx="2857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中国古代大部分时间，采金技术基本上使用原始而简单的淘洗法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用木盘或淘床，将含有金子的河砂放在木盘或淘床里，放入水中不断反复淘洗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比重较大的砂金就会沉淀在木盘底部，再一粒一粒地用手挑拣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6" descr="http://blog.rhythmsmonthly.com/gallery/10th/cat06.15.jpg"/>
          <p:cNvPicPr/>
          <p:nvPr/>
        </p:nvPicPr>
        <p:blipFill>
          <a:blip r:embed="rId1"/>
          <a:stretch/>
        </p:blipFill>
        <p:spPr>
          <a:xfrm>
            <a:off x="1500120" y="1285920"/>
            <a:ext cx="42148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临近高考，有的考生由于情绪高度紧张而导致夜间失眠、白天头脑发昏思维混乱。对此，专家建议：考生应劳逸结合、避免“开夜车”、“题海战术”，调整好生物钟。如条件允许，考生还可以坚持每天睡半小时午觉，从而保持一种好的身体和精神状态参加高考。 新华社发"/>
          <p:cNvPicPr/>
          <p:nvPr/>
        </p:nvPicPr>
        <p:blipFill>
          <a:blip r:embed="rId1"/>
          <a:srcRect l="0" t="0" r="0" b="5503"/>
          <a:stretch/>
        </p:blipFill>
        <p:spPr>
          <a:xfrm>
            <a:off x="1928880" y="428760"/>
            <a:ext cx="57070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套卷子做下来，你的收益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你得到的分数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还是你不会做的题目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考前六大消极心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时成绩好，担心高考失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时成绩欠佳，渴望一夜成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遭遇考试失败，对高考感到绝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考前太紧张，考场发挥失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能完全集中精力学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在乎，不着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历次测试结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7643880" cy="3471840"/>
          </a:xfrm>
          <a:prstGeom prst="rect">
            <a:avLst/>
          </a:prstGeom>
          <a:ln w="0">
            <a:noFill/>
          </a:ln>
        </p:spPr>
      </p:pic>
      <p:sp>
        <p:nvSpPr>
          <p:cNvPr id="632" name="TextBox 6"/>
          <p:cNvSpPr/>
          <p:nvPr/>
        </p:nvSpPr>
        <p:spPr>
          <a:xfrm>
            <a:off x="1357200" y="54291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费了时间做题，却没有进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收获本  让你更有收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错题本为啥不管用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将错题本束之高阁，没有发挥积极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错题本名称为消极暗示，学生不愿意去复习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应该怎么办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抛弃错题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撰写收获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收获本的好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928440" y="1600200"/>
            <a:ext cx="7643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过去犯的错误，将不在重演，成绩步步高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节约更多的时间，提高复习效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表 3" descr=""/>
          <p:cNvPicPr/>
          <p:nvPr/>
        </p:nvPicPr>
        <p:blipFill>
          <a:blip r:embed="rId1"/>
          <a:stretch/>
        </p:blipFill>
        <p:spPr>
          <a:xfrm>
            <a:off x="857160" y="2643120"/>
            <a:ext cx="3857760" cy="3500640"/>
          </a:xfrm>
          <a:prstGeom prst="rect">
            <a:avLst/>
          </a:prstGeom>
          <a:ln w="0">
            <a:noFill/>
          </a:ln>
        </p:spPr>
      </p:pic>
      <p:pic>
        <p:nvPicPr>
          <p:cNvPr id="641" name="图表 5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成功使用收获本的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收获本记录收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知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收获本通用不分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分科会造成复习上的困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写上日期、科目、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成功使用收获本的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收获本要便于携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便于携带才便于复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大小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-4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页规格的“软面抄”为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收获本要经常阅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天中午和睡前各阅读一次，平时可一多阅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利用零碎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分钟时间去阅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定期进行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隔一段时间（两个月）分科整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哪儿不懂？你哪儿不会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发现问题，比解决问题更重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要知道自己“不知道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从试卷中发现学生存在的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平时成绩好，担心高考失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担心出现不测的情况，导致理想不能实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思维误区：过分消极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考试就是对学习水平的检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回顾过去的成功考试经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做好应付各种可能情况的应急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区分两种错误类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会的，做错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太会或不会，做错或做不出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种类型：技能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kill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缺失型错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分明会做，反而做错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很有把握的题，却没做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明明会而且非常简单的题，却是落笔就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种类型：知识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欠缺型错误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一遍做对了，后来改错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一遍做错了，后来改对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回答不严密、不完整的等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会做题（回忆不起来，缺乏思路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明白问题之所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是提高学习成绩的起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试卷分析的具体做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确定错误类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型：审题错误、抄写错误、计算错误、笔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型：落实到具体章节（如函数、不等式、直线和圆、圆锥曲线、排列组合、概率统计、极限导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643040" y="3786120"/>
          <a:ext cx="6095880" cy="2225880"/>
        </p:xfrm>
        <a:graphic>
          <a:graphicData uri="http://schemas.openxmlformats.org/drawingml/2006/table">
            <a:tbl>
              <a:tblPr/>
              <a:tblGrid>
                <a:gridCol w="785880"/>
                <a:gridCol w="1143000"/>
                <a:gridCol w="2786040"/>
                <a:gridCol w="1380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题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错误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具体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失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审题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排列组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9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试卷分析的具体做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统计错误失分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型错误：按类别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型错误：按章节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确定改进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型错误：确定一个主要错误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型错误：确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个主要失分最多章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238720" y="1714680"/>
          <a:ext cx="3048120" cy="4130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失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型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审题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计算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型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函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等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直线和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圆锥曲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有效解决你的粗心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如何看待粗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粗心是不可克服的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只要细心一些就可以了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粗心是练习不够造成的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其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是因为缺乏有效技能解决所犯错误所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只要采取有针对性技能训练就能解决避免错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遭遇考试失败，对高考感到绝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模拟考试或者其他考试中遭遇失败，就对未来的高考感到绝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思维误区：过分概括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具体策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全面分析历次考试，特别是成功的考试，积累信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早发现问题，有利于解决问题，亡羊补牢未为晚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解决考试中出现的问题，你就又进步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战胜粗心的基本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深刻认识粗心的危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粗心抵消了你的学习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但这样损失却没有能够通过努力挣回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克服粗心的好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克服粗心就是得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克服粗心就可以使你的总分上一个档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得分比解决学习问题得分</a:t>
            </a: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更容易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回顾你犯错的过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只有深入了解粗心才能解决粗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回想一下你是怎样犯错误的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读题时没有读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审题时误以为它和过去考题一样，但实际不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审题时以为它是考那个内容，其实不是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运算化简时候忙中出错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运算过程中记错了条件和数字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在草稿上计算出错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抄写出错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写错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定性你的错误类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常见错误类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审题错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计算错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抄写错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书写错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图示 3" descr=""/>
          <p:cNvPicPr/>
          <p:nvPr/>
        </p:nvPicPr>
        <p:blipFill>
          <a:blip r:embed="rId1"/>
          <a:stretch/>
        </p:blipFill>
        <p:spPr>
          <a:xfrm>
            <a:off x="4552920" y="2494080"/>
            <a:ext cx="31590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行专题训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只有采取有针对性地训练，掌握解决问题的技能才能最终解决粗心的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平时做题和考试过程中，把消灭粗心作为一个重要任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考前双目标，考后双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知识掌握目标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型错误减少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知识掌握情况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型错误减少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掌握复查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复查是消灭粗心的最后屏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会复查是消灭粗心的重要保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确保复查的针对性是成功的关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了解自己容易出问题的所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复查时重点检查易出错的方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很少出错的方面可以不检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审题错误的解决方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审题错误的心理原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主要原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以想象代替实际（以为是这样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以为后面内容是过去所见到过的，而没有把题读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以为是过去题型而忽略了其中的变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记忆歪曲（记错了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题过程中由于紧张，把已知条件漏掉、记错、添加条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审题错误的解决办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克服粗心的办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必须养成读完题再解题的习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审题过程中标出关键字词或数量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题时适时回顾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如何复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重新读题，核查原先审题是否有偏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考前太紧张，考场发挥失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对考试担忧过多，导致考试时患得患失，思想不能集中，从而失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思维误区：过分灾难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担忧妨碍考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将担忧具体化，想好退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集中精力做题，不想别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审题错误 训练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训练指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通过试卷分析，找到审题错误的原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在平时作业，平时测验和各种模拟考试中按照上面的要求去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这样做需要坚持一段时间，一般情况下至少需要两周时间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计算错误的解决方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计算错误的原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运算错误的两个主要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省略步骤太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草稿书写不规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审题错误解决办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解决办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运算过程中多写运算步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只能两步并作一步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能三步、四步并作一步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草稿纸上正确书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标明题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书写规范（像正式试卷那样对待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审题错误解决办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解决办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何复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要再次进行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只需要检查运算过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训练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训练指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通过试卷分析，找到计算错误的原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在平时作业，平时测验和各种模拟考试中按照上面的要求去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首先注意草稿书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卷子上做题时养成多写运算步骤的习惯，而不要省略太多步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科一重点有效提升考试成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2" descr="http://www.zynews.com/images/2007-11/15/xin_1511041502099091620418.jpg"/>
          <p:cNvPicPr/>
          <p:nvPr/>
        </p:nvPicPr>
        <p:blipFill>
          <a:blip r:embed="rId1"/>
          <a:stretch/>
        </p:blipFill>
        <p:spPr>
          <a:xfrm>
            <a:off x="1143000" y="214200"/>
            <a:ext cx="7358040" cy="64296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6"/>
          <p:cNvSpPr/>
          <p:nvPr/>
        </p:nvSpPr>
        <p:spPr>
          <a:xfrm>
            <a:off x="3691440" y="6143760"/>
            <a:ext cx="29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1983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</a:rPr>
              <a:t>年高考作文题漫画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c0504d"/>
                </a:solidFill>
                <a:latin typeface="Calibri"/>
              </a:rPr>
              <a:t>挖井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生中最浪费时间的一件事就是太早放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人们经常在做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％的工作后，放弃了最后可以让他成功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不但输掉最初的付出，更丧失了经过最后努力而成功的喜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年高考数学全国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571760" y="1600200"/>
          <a:ext cx="6215040" cy="447192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文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理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代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向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立体几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析几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概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导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不能完全集中精力学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抱怨自己不能完全集中精力学习，导致自己学习效率不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思维误区：过分理想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这是正常现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注意劳逸结合、注意休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注重效率，而不是绝对时间的投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提升考分的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71360" y="1628640"/>
            <a:ext cx="73580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高考成功策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示 3" descr=""/>
          <p:cNvPicPr/>
          <p:nvPr/>
        </p:nvPicPr>
        <p:blipFill>
          <a:blip r:embed="rId1"/>
          <a:stretch/>
        </p:blipFill>
        <p:spPr>
          <a:xfrm>
            <a:off x="1517760" y="2408400"/>
            <a:ext cx="610848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科一重点技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解自己的问题之所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应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试卷分析技术找到自己的问题之所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判断每道题目的考点是什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依据考试大纲或课本判断它属于哪部分，哪个知识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以大纲或课本为基础，统计自己各部分得分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制成表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某学生语文测验试卷分析结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928800" y="1774800"/>
          <a:ext cx="7643880" cy="4011480"/>
        </p:xfrm>
        <a:graphic>
          <a:graphicData uri="http://schemas.openxmlformats.org/drawingml/2006/table">
            <a:tbl>
              <a:tblPr/>
              <a:tblGrid>
                <a:gridCol w="1643040"/>
                <a:gridCol w="1357200"/>
                <a:gridCol w="1214640"/>
                <a:gridCol w="1357200"/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试卷比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得分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考试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、语文基础和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、古代诗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、现代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、写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确定各科复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根据目前科目分数水平确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科目复习考试分数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目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8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，希望提高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确定重点提分领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现代文阅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目前得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0" lang="zh-CN" sz="20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），得分率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希望提高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，得分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确定各科复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语文基础和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目前得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），得分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希望提高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，得分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确定重点科目区域达标标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原则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比如希望总分达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水平，区域达标目标就应该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+5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的水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即只有该领域的得分达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以上的时候，才能更换重点复习领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某学生语文测验试卷分析结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928800" y="1774800"/>
          <a:ext cx="7643880" cy="4011480"/>
        </p:xfrm>
        <a:graphic>
          <a:graphicData uri="http://schemas.openxmlformats.org/drawingml/2006/table">
            <a:tbl>
              <a:tblPr/>
              <a:tblGrid>
                <a:gridCol w="1643040"/>
                <a:gridCol w="1357200"/>
                <a:gridCol w="1214640"/>
                <a:gridCol w="1357200"/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试卷比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得分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考试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、语文基础和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、古代诗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、现代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4</a:t>
                      </a:r>
                      <a:r>
                        <a:rPr b="0" lang="zh-CN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0%</a:t>
                      </a:r>
                      <a:r>
                        <a:rPr b="0" lang="zh-CN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、写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精准定位复习范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确定复习重点区域的前提下，对该部分知识掌握内容进行细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哪些方面知识已经掌握，哪些方面知识还有缺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将重点放在没有掌握的知识要点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知识要点分析越仔细，复习就越有成效，提分就越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立体几何部分掌握细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1000080" y="1357200"/>
          <a:ext cx="7358040" cy="5186520"/>
        </p:xfrm>
        <a:graphic>
          <a:graphicData uri="http://schemas.openxmlformats.org/drawingml/2006/table">
            <a:tbl>
              <a:tblPr/>
              <a:tblGrid>
                <a:gridCol w="820800"/>
                <a:gridCol w="4108320"/>
                <a:gridCol w="1214640"/>
                <a:gridCol w="121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知识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掌握评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复习重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面的基本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空间的两条直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直线与平面平行判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直线与平面垂直判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点到直线、平面求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垂线定理、逆定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面与平面平行的判定和性质定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直线和平面的距离，两平面间的距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求二面角大小的一般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面与平面垂直的判定和性质定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棱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棱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深度复习提高分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回到课本，阅读相关章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回顾课后习题，重做习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扩展阅读面，读几本参考书（对应章节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选做部分参考书的试题，选看部分参考书试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对于不懂的地方，及时请教老师和同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回到单元练习，直到达成预定掌握目标为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平时成绩欠佳，渴望一夜成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85520" y="15001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成绩较差，对自己的现状感到不满意，渴望有一个很快提高学习成绩的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思维误区：过分理想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好的成绩是靠努力得来的，没有捷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只有行为才能改变现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果努力，成功的机会就要高一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欢迎访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昭良心理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ww.zixunshi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不在乎，不着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对即将到来的高考，找不到感觉，不在状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思维误区：过分消极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具体对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人生能有几回搏？面对竞争不能退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确定一个高考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确定一个每日学习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将某个同学作为榜样，与他一起学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11:4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7:56Z</dcterms:modified>
  <cp:revision>11</cp:revision>
  <dc:subject>主题班会课件(分28大类): http://shop62905894.taobao.com</dc:subject>
  <dc:title>主题班会课件(分28大类): http://shop62905894.taobao.com</dc:title>
</cp:coreProperties>
</file>